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A6DF-5F36-4463-A37D-4919CAEBA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81F9-5B91-46E4-BC08-B8CE3CFFF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10C4-6BDE-4D65-B2D7-92D3BCD93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26D2-9C4A-4400-9EDC-C534FD8AC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560F-7408-4B53-ADD1-95C5A9DD9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2A23-2787-4A4C-80CC-3376C7E8A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BF87-B04A-473C-8349-7C2D04E9A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6EA5-36AA-4422-B276-5F3E7D84B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6482-9D36-4648-A1B4-D5B065A8E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06FA-5880-439C-B346-1C5942F9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538C-0038-4F12-9322-E7221F22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E285-ABC3-4C1B-850E-19B65D5A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BBB07-82A2-49E7-BF95-E83DC4533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1773360"/>
            <a:ext cx="7199280" cy="2592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uisition and analysis computer (Od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1916280"/>
            <a:ext cx="215892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setup (.res4 file location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data s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32000" y="1916280"/>
            <a:ext cx="187164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Buffer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s shared memo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es trigger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2891400">
            <a:off x="2013840" y="2817720"/>
            <a:ext cx="433440" cy="360360"/>
          </a:xfrm>
          <a:prstGeom prst="rightArrow">
            <a:avLst>
              <a:gd name="adj1" fmla="val 50000"/>
              <a:gd name="adj2" fmla="val 300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292720" y="1916280"/>
            <a:ext cx="215892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lab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s data and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s trigger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11280" y="3284640"/>
            <a:ext cx="3024360" cy="649080"/>
          </a:xfrm>
          <a:prstGeom prst="flowChartAlternate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 memory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6200000">
            <a:off x="3851280" y="2781000"/>
            <a:ext cx="431640" cy="431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8668400">
            <a:off x="5350320" y="2824920"/>
            <a:ext cx="503280" cy="432000"/>
          </a:xfrm>
          <a:prstGeom prst="leftRightArrow">
            <a:avLst>
              <a:gd name="adj1" fmla="val 50000"/>
              <a:gd name="adj2" fmla="val 2319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68360" y="1773360"/>
            <a:ext cx="7199280" cy="2592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uisition and analysis computer (Od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1916280"/>
            <a:ext cx="215892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setup (.res4 file location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data s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32000" y="1916280"/>
            <a:ext cx="187164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Buffer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s shared memo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es trigger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2891400">
            <a:off x="2013840" y="2817720"/>
            <a:ext cx="433440" cy="360360"/>
          </a:xfrm>
          <a:prstGeom prst="rightArrow">
            <a:avLst>
              <a:gd name="adj1" fmla="val 50000"/>
              <a:gd name="adj2" fmla="val 300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92720" y="1916280"/>
            <a:ext cx="215892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lab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s data and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s trigger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11280" y="3284640"/>
            <a:ext cx="3024360" cy="649080"/>
          </a:xfrm>
          <a:prstGeom prst="flowChartAlternate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 memory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6200000">
            <a:off x="3851280" y="2781000"/>
            <a:ext cx="431640" cy="431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8668400">
            <a:off x="5350320" y="2824920"/>
            <a:ext cx="503280" cy="432000"/>
          </a:xfrm>
          <a:prstGeom prst="leftRightArrow">
            <a:avLst>
              <a:gd name="adj1" fmla="val 50000"/>
              <a:gd name="adj2" fmla="val 2319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883640" y="3573360"/>
            <a:ext cx="2016000" cy="7923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lab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s header information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and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315280" y="1773360"/>
            <a:ext cx="1008000" cy="122400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ldTri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524720" y="2276640"/>
            <a:ext cx="684360" cy="360360"/>
          </a:xfrm>
          <a:prstGeom prst="rightArrow">
            <a:avLst>
              <a:gd name="adj1" fmla="val 50000"/>
              <a:gd name="adj2" fmla="val 4747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8638560" y="3105000"/>
            <a:ext cx="433440" cy="360360"/>
          </a:xfrm>
          <a:prstGeom prst="rightArrow">
            <a:avLst>
              <a:gd name="adj1" fmla="val 50000"/>
              <a:gd name="adj2" fmla="val 300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1773360"/>
            <a:ext cx="4751280" cy="2592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uisition and analysis computer (Od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1916280"/>
            <a:ext cx="215892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setup (.res4 file location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data s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32000" y="1916280"/>
            <a:ext cx="1871640" cy="86508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2ft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 up shared memo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odes some header info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es trigger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5400000">
            <a:off x="1726560" y="2817720"/>
            <a:ext cx="433440" cy="360360"/>
          </a:xfrm>
          <a:prstGeom prst="rightArrow">
            <a:avLst>
              <a:gd name="adj1" fmla="val 50000"/>
              <a:gd name="adj2" fmla="val 300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35640" y="3573360"/>
            <a:ext cx="2016000" cy="7923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lab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s header information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and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58920" y="3284640"/>
            <a:ext cx="3024000" cy="649080"/>
          </a:xfrm>
          <a:prstGeom prst="flowChartAlternate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 memory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1773360"/>
            <a:ext cx="1008360" cy="122400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ldTri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3492360" y="2852280"/>
            <a:ext cx="36036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76720" y="2276640"/>
            <a:ext cx="684360" cy="360360"/>
          </a:xfrm>
          <a:prstGeom prst="rightArrow">
            <a:avLst>
              <a:gd name="adj1" fmla="val 50000"/>
              <a:gd name="adj2" fmla="val 4747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5400000">
            <a:off x="6190560" y="3105000"/>
            <a:ext cx="433440" cy="360360"/>
          </a:xfrm>
          <a:prstGeom prst="rightArrow">
            <a:avLst>
              <a:gd name="adj1" fmla="val 50000"/>
              <a:gd name="adj2" fmla="val 300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5400000">
            <a:off x="3779640" y="2997000"/>
            <a:ext cx="360360" cy="71280"/>
          </a:xfrm>
          <a:prstGeom prst="rightArrow">
            <a:avLst>
              <a:gd name="adj1" fmla="val 50000"/>
              <a:gd name="adj2" fmla="val 12638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07:52:58Z</dcterms:created>
  <dc:creator>Root</dc:creator>
  <dc:description/>
  <dc:language>en-US</dc:language>
  <cp:lastModifiedBy>Root</cp:lastModifiedBy>
  <dcterms:modified xsi:type="dcterms:W3CDTF">2010-06-08T13:19:22Z</dcterms:modified>
  <cp:revision>7</cp:revision>
  <dc:subject/>
  <dc:title>Slide 1</dc:title>
</cp:coreProperties>
</file>