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3970-BF7F-4DE0-A459-2C1DB52CD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B40E-784D-4075-9F13-C28F0166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FBE2-C236-4BCF-BAA3-A9B43E179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281D-8B76-4523-ADAE-286B7754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B075-F731-450F-864F-C620D578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DC37-93B8-4B4E-8E33-6D7EBCF0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2962-A354-444B-B4EC-E79F25E2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9E41-5C3E-4189-88F5-3B4F6388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3B8B-6926-4B36-8ADC-C2CC258A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8AA4-27C4-4BC8-8AA2-1AAB0FAF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A53C-61DA-4844-A56E-AEC2AA35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CDD0-6095-4ADD-AEA2-A19FAACB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3113-795B-4A9F-BFFF-9E3BFF22F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773360"/>
            <a:ext cx="7199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32000" y="1916280"/>
            <a:ext cx="187164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Buffer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891400">
            <a:off x="201384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9272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3284640"/>
            <a:ext cx="302436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3851280" y="2781000"/>
            <a:ext cx="431640" cy="431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668400">
            <a:off x="5350320" y="2824920"/>
            <a:ext cx="503280" cy="432000"/>
          </a:xfrm>
          <a:prstGeom prst="leftRightArrow">
            <a:avLst>
              <a:gd name="adj1" fmla="val 50000"/>
              <a:gd name="adj2" fmla="val 231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773360"/>
            <a:ext cx="7199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32000" y="1916280"/>
            <a:ext cx="187164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Buffer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891400">
            <a:off x="201384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3284640"/>
            <a:ext cx="302436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3851280" y="2781000"/>
            <a:ext cx="431640" cy="431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8668400">
            <a:off x="5350320" y="2824920"/>
            <a:ext cx="503280" cy="432000"/>
          </a:xfrm>
          <a:prstGeom prst="leftRightArrow">
            <a:avLst>
              <a:gd name="adj1" fmla="val 50000"/>
              <a:gd name="adj2" fmla="val 231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83640" y="3573360"/>
            <a:ext cx="2016000" cy="7923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header informatio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15280" y="1773360"/>
            <a:ext cx="1008000" cy="12240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Tr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24720" y="2276640"/>
            <a:ext cx="684360" cy="360360"/>
          </a:xfrm>
          <a:prstGeom prst="rightArrow">
            <a:avLst>
              <a:gd name="adj1" fmla="val 50000"/>
              <a:gd name="adj2" fmla="val 474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8638560" y="310500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1773360"/>
            <a:ext cx="4751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1916280"/>
            <a:ext cx="1871640" cy="86508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2ft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up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des some header info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172656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35640" y="3573360"/>
            <a:ext cx="2016000" cy="7923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header informatio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58920" y="3284640"/>
            <a:ext cx="302400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1773360"/>
            <a:ext cx="1008360" cy="12240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Tr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3492360" y="285228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2276640"/>
            <a:ext cx="684360" cy="360360"/>
          </a:xfrm>
          <a:prstGeom prst="rightArrow">
            <a:avLst>
              <a:gd name="adj1" fmla="val 50000"/>
              <a:gd name="adj2" fmla="val 474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6190560" y="310500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3779640" y="2997000"/>
            <a:ext cx="360360" cy="71280"/>
          </a:xfrm>
          <a:prstGeom prst="rightArrow">
            <a:avLst>
              <a:gd name="adj1" fmla="val 50000"/>
              <a:gd name="adj2" fmla="val 1263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07:52:58Z</dcterms:created>
  <dc:creator>Root</dc:creator>
  <dc:description/>
  <dc:language>en-US</dc:language>
  <cp:lastModifiedBy>Root</cp:lastModifiedBy>
  <dcterms:modified xsi:type="dcterms:W3CDTF">2010-06-08T13:19:22Z</dcterms:modified>
  <cp:revision>7</cp:revision>
  <dc:subject/>
  <dc:title>Slide 1</dc:title>
</cp:coreProperties>
</file>