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B6A-A506-4C4A-A410-5FCFB922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67A1-B9B5-47EB-AB47-BE02CC9B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410F-12F8-443F-8E83-D6BC9C92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3202-E5BD-45FB-95A5-BC4C1B4A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4BA-74CC-443D-A5BA-A72FDD00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A7D3-DA9F-40DD-AC7E-F26B5329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7537-E8D1-4EBB-BF81-BC50A1E8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460-D7FA-4AAA-891E-97458F45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64BE-8936-414B-8733-44D9A772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05DB-3836-49F8-90B5-1DDE62BD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35C-C7E1-440E-934E-0C79205F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9964-D26C-41D6-B631-30A15AE3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8D1D-2BDB-47D9-824A-64198727D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83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15280" y="1773360"/>
            <a:ext cx="100800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8638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773360"/>
            <a:ext cx="4751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916280"/>
            <a:ext cx="1871640" cy="86508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2ft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up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s some header inf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172656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3284640"/>
            <a:ext cx="302400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773360"/>
            <a:ext cx="100836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492360" y="2852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190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79640" y="299700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7:52:58Z</dcterms:created>
  <dc:creator>Root</dc:creator>
  <dc:description/>
  <dc:language>en-US</dc:language>
  <cp:lastModifiedBy>Root</cp:lastModifiedBy>
  <dcterms:modified xsi:type="dcterms:W3CDTF">2010-06-08T13:19:22Z</dcterms:modified>
  <cp:revision>7</cp:revision>
  <dc:subject/>
  <dc:title>Slide 1</dc:title>
</cp:coreProperties>
</file>