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ADCC-3386-4B34-990A-99AAB7BC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8066-9235-4ED4-B8EB-0E076C54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2894-4539-4F71-A6A5-82335A62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8D3-7F8E-415E-9749-5ED77D9C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EC67-AAED-4E72-ACAF-E51CFB34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FD1E-FB8B-466E-B905-07E1F426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82C2-39B2-4712-AECF-8FD91DAD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DBC9-BA80-470D-9F7F-34E7A158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3001-53D3-4942-98EC-480128E1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8745-EE9B-4B59-8861-DAA5324F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B0B5-652D-4C5B-9B8B-DE3396D4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BD38-AE24-429E-A0B8-003525ED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7F61-79D4-42DC-A31F-4353387C0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83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15280" y="1773360"/>
            <a:ext cx="100800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8638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773360"/>
            <a:ext cx="4751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1916280"/>
            <a:ext cx="1871640" cy="86508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2ft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up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s some header info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172656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8920" y="3284640"/>
            <a:ext cx="302400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773360"/>
            <a:ext cx="100836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492360" y="28522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190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79640" y="299700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7:52:58Z</dcterms:created>
  <dc:creator>Root</dc:creator>
  <dc:description/>
  <dc:language>en-US</dc:language>
  <cp:lastModifiedBy>Root</cp:lastModifiedBy>
  <dcterms:modified xsi:type="dcterms:W3CDTF">2010-06-08T13:19:22Z</dcterms:modified>
  <cp:revision>7</cp:revision>
  <dc:subject/>
  <dc:title>Slide 1</dc:title>
</cp:coreProperties>
</file>