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8E2-8AE0-43AC-8B77-0A5217E0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076-646E-4A91-ACCE-F22B0D50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636-CBF3-46C4-B6B4-BF416968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F82C-A346-4698-9963-DD13AF7C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EAB-EFA9-42E3-8149-CBA37401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DD9-EA91-4993-996F-71274939E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5AF0-32F4-4A5B-91C9-9F78512D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094D-CD23-4995-956A-60BC4DEF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B77-A96F-4C38-A702-18DF0C9B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8ED-820C-4BB4-AFFF-3E08C3A7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4B7-E1DF-4183-B2DA-D1F7207B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1A5-57F7-48E5-B97B-F5B52E2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3131-4B69-4AD4-B336-1623BB364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1773360"/>
            <a:ext cx="7199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916280"/>
            <a:ext cx="187164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Buffer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891400">
            <a:off x="201384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9272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3284640"/>
            <a:ext cx="302436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851280" y="2781000"/>
            <a:ext cx="431640" cy="431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668400">
            <a:off x="5350320" y="2824920"/>
            <a:ext cx="503280" cy="432000"/>
          </a:xfrm>
          <a:prstGeom prst="leftRightArrow">
            <a:avLst>
              <a:gd name="adj1" fmla="val 50000"/>
              <a:gd name="adj2" fmla="val 2319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83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5280" y="1773360"/>
            <a:ext cx="100800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24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8638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1773360"/>
            <a:ext cx="4751280" cy="25923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uisition and analysis computer (Od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1916280"/>
            <a:ext cx="2158920" cy="79200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setup (.res4 file loc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s data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1916280"/>
            <a:ext cx="1871640" cy="86508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q2ft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up shared memo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s some header info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es trigger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1726560" y="281772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5640" y="3573360"/>
            <a:ext cx="2016000" cy="792360"/>
          </a:xfrm>
          <a:prstGeom prst="flowChartAlternate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s header informatio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and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3284640"/>
            <a:ext cx="3024000" cy="649080"/>
          </a:xfrm>
          <a:prstGeom prst="flowChartAlternate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1773360"/>
            <a:ext cx="1008360" cy="122400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Tr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492360" y="285228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2276640"/>
            <a:ext cx="684360" cy="360360"/>
          </a:xfrm>
          <a:prstGeom prst="rightArrow">
            <a:avLst>
              <a:gd name="adj1" fmla="val 50000"/>
              <a:gd name="adj2" fmla="val 474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190560" y="3105000"/>
            <a:ext cx="433440" cy="360360"/>
          </a:xfrm>
          <a:prstGeom prst="rightArrow">
            <a:avLst>
              <a:gd name="adj1" fmla="val 50000"/>
              <a:gd name="adj2" fmla="val 300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9640" y="299700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7:52:58Z</dcterms:created>
  <dc:creator>Root</dc:creator>
  <dc:description/>
  <dc:language>en-US</dc:language>
  <cp:lastModifiedBy>Root</cp:lastModifiedBy>
  <dcterms:modified xsi:type="dcterms:W3CDTF">2010-06-08T13:19:22Z</dcterms:modified>
  <cp:revision>7</cp:revision>
  <dc:subject/>
  <dc:title>Slide 1</dc:title>
</cp:coreProperties>
</file>